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AD13-3013-4383-B206-371B1139D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tudents look for examples of cause and effect signal words in text books and technical man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CD11-0B37-49FE-A0B3-BB55EF315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9F3A-B944-4BC8-B6C3-E1E69800F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8477-6E36-4A6C-ACF8-42F5C003140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276C8-1E24-4EF3-8FF7-EB9A5459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ED4A0-5D48-4239-9AB0-5A93E464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E1D91-B25F-4055-98C1-CA77C90D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21417-B501-40A8-AA22-1E3171F9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BAC8C-6371-4C1B-AE38-618E4FBC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68A6F-331C-4CF7-9969-B69E83A6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3B5CF-1419-4650-94BC-67990557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44D6B-F41D-40F1-935F-A5C6CBA2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7877D-B76C-451D-923A-FDECB368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1108C-3B7F-4DDE-AA3C-E2E7F826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5E50-FD4A-4E00-8FD0-DE5D8B077C4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74109-59C3-4727-9AFD-D2764E6F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400C1-0B8E-471B-8F27-AD1BD268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C4CE9-F0AE-4166-8F7A-4E2F807C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F3216-D9B3-4A24-B79B-FDE97C45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3F7C8-929C-4550-B147-5AE5A1C4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30455-226C-4B43-B96E-62CF6E3B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6ABD3-1288-4386-9D66-362EA25F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7D4FC-635C-4468-BC3A-9894468A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1DC06-D128-4961-AC0C-7DD0AC9A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94148-F0C5-40FC-8AAE-03A63117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AA73-BEB7-445D-8FB3-42D7E724226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21682-E383-47D4-8420-BAE913BB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EFBFD-D45D-43F5-9FC1-771D76E6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F64C4-C858-4CC7-9811-3176779B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45720-4D6C-4351-87CB-00AA4496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05FB1-2E2F-4BAD-B0BF-671305C1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E3E4E-3217-4771-8978-7B2DD522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0CA52-B5CE-48B8-B4B5-D1103FD7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38AD5-C139-4DB1-B318-1780BF0B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6EE9C-E811-472C-8A49-5DF34751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D2259-5BCF-4007-B178-3EF9B50D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0FA5-FBB1-400C-B213-650BF403CE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4717E-AAC0-48E1-8C39-9C020A2D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668EB-D13A-44A9-9A82-BF49DF7C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EE8B9-30A5-4EBD-A946-409ACCDC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94EC4-8BDC-4445-BB14-C67E901D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40F59-F76B-4F70-B419-7B55DD96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53BDF-14A7-411B-B4F9-D671193D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66D6E-BDD6-40FE-9DFE-1849F29E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84AFA-3F61-4B68-87D7-22F19016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0082F-DF66-4139-9CCD-D2CBD64E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5249E-C844-40C0-97B6-44A34826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D41-235F-4E54-AED5-407D9549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11DF8-6E7B-4686-B63E-0D52EEDA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C9659-BF06-47CA-A0CB-737EBA45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4C69D-1FEA-4718-A0EC-4ADD3834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FC24D-B24A-4613-A13D-3437BEEA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8F54F-53CA-4E16-ABA3-327DAF09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FAC-0495-4D9C-8781-C3B480CC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47F-E9BF-4673-9722-7C8B6799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150-A696-4AA0-9B96-7DC270FA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3086-4A56-469B-885E-F33923D5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844-EBCC-4297-AF00-2516158C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307F-1EAC-49B4-847A-3BDCA301C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0A9-ECF6-43A4-886B-50EAC5B7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CAF-FDF4-4346-A5E6-B0CFDF29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3BC-0DB3-4D16-AE16-E9A22977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103-8D34-411A-9455-0B2DFF19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B7D-A8B1-4BDD-84CD-2672299CA2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F0E5-ED84-485F-8DD0-8E9A7484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4893-941A-40A9-B9D4-24D7257C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7FEA-8A5A-41EE-9AF5-6E2A9C00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F8EC-75D1-468C-8A04-0B6D1D27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4825-3FD7-408E-B57A-E819E1C3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2FE6-F30D-4783-BCCD-75AE3A743A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729C-9D6D-4B89-8CCA-CD6A60C5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B38F-BF0D-4D0B-9FF9-2452FD04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627A-655F-434A-A2D5-D5C898C4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0DB1-7C3E-416B-B100-146CF552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9B42-8D40-456B-B0D8-6B72C714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BEFD-D19C-4020-B13E-05AEC34F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6211-B636-4FAA-890E-D789142F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0F7D-7108-4C9C-B5A7-E6F6059D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07BB-3CA3-4783-A106-F0AA595E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57ECA-23D5-4A74-B706-2439B895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1D5A-4362-4322-B6CD-A13C16BE0C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E529-002D-4F40-8E33-54968F35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BB32-6800-4019-BD37-0214249B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0B85-F334-4F64-98E3-23B9F5B8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52BD-0093-46E3-8F54-7141AD41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6723-8DF3-4B93-A5AB-3DEB5E1C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C709-F051-4C52-83E9-BB0A49D6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F7186-09B5-4E1A-AD0A-DE33B997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14F7-1FF5-4BCB-AF61-3190681B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E6796-CAFC-4810-B6AB-D65A428E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4E586-8558-4C77-8AF6-AC634A0A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391E-5847-4846-9C3B-C4D5D4C91D1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84C8B-2D47-4144-AB61-4BD37B4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A0BCE-AF30-4374-A3E1-F7196EB0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E981-C39D-45B9-9EDD-86EC16DE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1B531-05FE-4133-A73D-FAAAC4AB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0F7B-35D0-40F5-BC92-9E1B033B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5AC7-FD0B-4979-94E5-524112D9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E1FFB-BCE0-469F-BD94-A2732F62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99A1B-B34A-4D29-85FD-DBBABE7F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010DE-5629-437C-A167-DFB14C73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F94C9-5132-4D52-BC57-159A82F8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8CE5-414C-4751-AF08-68C66D7F487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B7DA-D23B-4FD0-8552-E44B0A77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36FD4-E54B-454C-AC7F-1C0F6A1E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45495-DE3B-4BF9-9200-73B78C49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DE373-886F-4231-B98C-F2229AEE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3002-AF5B-43A4-973C-20D7914C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D8145-F1CC-4343-AAEA-12417DB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87DF3-CB38-4798-919F-EF54B1B7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35C84-C227-4EAA-8728-3968D22A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E726B-26FF-440C-ACB6-540C5E91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A6DBB-3329-4923-A666-F09959EC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82C5-941E-4634-8C41-D138BDE4493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F3BE4-9D99-407B-9FD2-E4FED4EF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5D600-2DA6-46C3-816D-BAD7D299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95A48-15ED-4F5F-BA15-B551E4B0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4D090-4193-4872-853E-A1E51484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15F84-AD26-439E-8485-9EECDD6A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B1185-F0CE-4368-A42F-7F28129F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A0907-7FC0-4599-882D-702DA663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D1057-6300-483E-8618-DA46468B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C60BF-F830-4804-8F00-27CF2BCE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EC89B-A1B8-4B92-93BA-6F28A98A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10B3-06CB-4FD8-B9FE-BC43F5545C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960C6-8815-48E2-AC67-FF87B68D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E71AC-5F9D-4FCE-A036-B94FB621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28EE7-CCA1-441F-BC42-CD075EBD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5E875-AB3C-42CD-A684-963E1988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E5C40-A88F-48BB-99D6-5A74C12A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8E020-6B80-4C55-BAD2-6A3B5E76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6D295-55A0-4452-8A61-FD4ACB43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A1F7D-A7D2-40E7-BECF-D30C7C7E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3FD3D-D027-4A16-9678-30E5BB74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E3729-AB7A-4728-82E2-F1732870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2BDB-F863-43A5-BA12-8F76538E24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52426-E0EC-4BD5-BEF6-8CA6C5CF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AEFED-D923-482E-BC1B-56DBE935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7F731-4EB1-4F61-B90A-0C083E4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98BFD-3F0D-41AE-8B0D-AA0648AA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307AD-56E4-4B85-BA44-0C25C5BB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645CA-176C-4603-9048-EB4A8CB7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2A614-4C07-4A1E-95F4-229A15AC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4A5C7-621C-4ADA-953C-C7165D9A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D2E22-7E0C-48DC-9619-64004176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2A1CF-9986-4ABD-ADDD-AFC6A296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FEF7-F50D-4808-8140-1D39E5B6EEC7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grpSp>
        <p:nvGrpSpPr>
          <p:cNvPr id="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DDCD-EFE6-4102-BBCA-CC06CE783A1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8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4A8A-EDF9-4693-BF88-334B6C533E95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4454-EBCC-4141-A958-EE8019D2DCDE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traight Connector 7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9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1676-0B82-40AF-8D09-4B4E920EA400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2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D26C-91EC-4119-AC55-5FAC5B62932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Straight Connector 7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2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eec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eec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beec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8B9C-4176-4AA2-B204-193EC46E0FFD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6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0285-1A1A-4933-B7F0-546E770E0481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Straight Connector 7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9C27-D185-466A-89FE-AD6E878EB43A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2643-99D9-49F6-8E88-9D4A80EE99D4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BB34-E3E5-4750-B1D6-919A9490EACC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1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-360" y="6400440"/>
            <a:ext cx="25146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4437-29C1-4FE0-B43C-C80AD2CEDB79}" type="slidenum">
              <a:rPr b="0" lang="en-US" sz="1200" spc="-1" strike="noStrike">
                <a:solidFill>
                  <a:srgbClr val="d38e27"/>
                </a:solidFill>
                <a:latin typeface="Verdana"/>
                <a:ea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SOUTH DAKOTA AFNR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Verdana"/>
              </a:rPr>
              <a:t>Academic Integration Activities: Example #8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INDEPENDENT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s the piston pushes the fuel/air mixture into a smaller space, it creates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compression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 because pressure on the fuel/air mixture is greater than before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gnal word: Becaus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Piston pushing the air/fuel mixture into a smaller spac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Increased pressur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mpression must be an action than increases the pressure on something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609480" y="19000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Verdana"/>
              </a:rPr>
              <a:t>Fundamental Ag Mechanics students use cause and effect clues to understand the operation of a four stroke internal combustion en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G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Fundamental Ag Mechanics—FAM 2.3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Repair internal combustion engines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Write a description of the operation of internal combustion engine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ACADEMIC STANDARD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11.R.1.1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Students can apply cause and effect clues to extend vocabulary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cause of an action or event may be stated using an unfamiliar word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If the effect is stated in familiar terms, it can help the reader understand the unknown word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e weeds in the garden are so profuse that I can no longer see the flower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hat does the word “profuse” mean?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There are many weed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You can’t see the flowers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Profuse must mean a large amount of something.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BACKGROUND INFORMATION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Words signaling cause and effect: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Becaus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nc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erefore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nsequentl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As a resul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o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Tha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EXAMPLE IN CONTEXT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The intake valve is open during the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intake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stroke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. As a result, the air/fuel mixture enters into the cylinder and combustion chamber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gnal word: As a result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Intake value is open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Air/fuel mixture can enter the cylind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Intake stroke must mean a period before power is created or a time when new fuel comes into the cylind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Verdana"/>
              </a:rPr>
              <a:t>GUIDED PRACTICE EXERCISES</a:t>
            </a:r>
            <a:endParaRPr b="1" lang="en-US" sz="3200" spc="-1" strike="noStrike">
              <a:solidFill>
                <a:srgbClr val="4e3b30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A spark leads to </a:t>
            </a:r>
            <a:r>
              <a:rPr b="0" i="1" lang="en-US" sz="2800" spc="-1" strike="noStrike">
                <a:solidFill>
                  <a:srgbClr val="4e3b30"/>
                </a:solidFill>
                <a:latin typeface="Verdana"/>
              </a:rPr>
              <a:t>combustion</a:t>
            </a:r>
            <a:r>
              <a:rPr b="0" lang="en-US" sz="2800" spc="-1" strike="noStrike">
                <a:solidFill>
                  <a:srgbClr val="4e3b30"/>
                </a:solidFill>
                <a:latin typeface="Verdana"/>
              </a:rPr>
              <a:t>; consequently, the explosion pushes the piston and the crankshaft.</a:t>
            </a:r>
            <a:endParaRPr b="0" lang="en-US" sz="28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Signal word: Consequently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ause: A spark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Effect: An explosion that creates power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Verdana"/>
              </a:rPr>
              <a:t>Combustion must mean lighting the fuel/air mixture to create an explosion</a:t>
            </a:r>
            <a:endParaRPr b="0" lang="en-US" sz="2400" spc="-1" strike="noStrike">
              <a:solidFill>
                <a:srgbClr val="4e3b3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</cp:lastModifiedBy>
  <dcterms:modified xsi:type="dcterms:W3CDTF">2010-08-05T16:59:15Z</dcterms:modified>
  <cp:revision>15</cp:revision>
  <dc:subject/>
  <dc:title>South Dakota Ag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36005786</vt:r8>
  </property>
  <property fmtid="{D5CDD505-2E9C-101B-9397-08002B2CF9AE}" pid="3" name="_AuthorEmail">
    <vt:lpwstr>Tiffany.Sanderson@state.sd.us</vt:lpwstr>
  </property>
  <property fmtid="{D5CDD505-2E9C-101B-9397-08002B2CF9AE}" pid="4" name="_AuthorEmailDisplayName">
    <vt:lpwstr>Sanderson, Tiffany</vt:lpwstr>
  </property>
  <property fmtid="{D5CDD505-2E9C-101B-9397-08002B2CF9AE}" pid="5" name="_EmailSubject">
    <vt:lpwstr>AFNR Integration Strategies - 2 of 2</vt:lpwstr>
  </property>
</Properties>
</file>